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BDA-DF7E-4C09-A21D-EED5F0AE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D584-E7CC-469A-AB28-BFEBAD76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BF0-AC12-429B-9077-2462A361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8E3-CE32-45C1-9A22-A6CAA8D8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FA5B-621D-412F-9BFC-F1A32CB8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E3FB-6CDC-422C-8FE2-89E2B0A2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5BB2-66F5-42B7-B711-7AB162CA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D590-70EF-477A-BCBA-9B5021EC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D7B-8A17-4673-A686-DACC919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5176-78C6-4004-9B80-EE6D7D9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340F-0F3C-4DF1-A6F7-57D29D22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1C9C-F2B9-4216-AAC3-624EDFF4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27CF-3616-43CB-B147-D67CE3D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789D-D8E9-496D-9595-9AF2A44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7830-8F51-4111-854F-6C90103B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A0FB-F61D-422E-A601-4DEA8360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98C1-AB4D-404B-9E66-701005E7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F2D-C26A-4086-8ECF-3A75A57D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6D45-4BA1-4A8F-8607-BAB199A6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981-2F2D-4A53-BFCF-B0BA3F16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F45-C305-4639-874A-1EEA8E4E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999-35A0-4D36-9123-F3D09943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0FD-31C1-4A03-A61D-9150D27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830-31DA-4898-8C5C-F1E0B9A1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613D-C71E-4577-8F0B-F2CA8B25D59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4865-058B-4D10-AD00-D20F675BAA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hQmaiuF6ZA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wjsay.com/" TargetMode="External"/><Relationship Id="rId2" Type="http://schemas.openxmlformats.org/officeDocument/2006/relationships/hyperlink" Target="http://www.howjsay.com/" TargetMode="External"/><Relationship Id="rId3" Type="http://schemas.openxmlformats.org/officeDocument/2006/relationships/hyperlink" Target="http://www.howjsay.com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X1rrFh4OZw" TargetMode="External"/><Relationship Id="rId2" Type="http://schemas.openxmlformats.org/officeDocument/2006/relationships/hyperlink" Target="http://www.youtube.com/watch?v=WX1rrFh4OZw" TargetMode="External"/><Relationship Id="rId3" Type="http://schemas.openxmlformats.org/officeDocument/2006/relationships/hyperlink" Target="http://www.youtube.com/watch?v=WX1rrFh4OZw" TargetMode="External"/><Relationship Id="rId4" Type="http://schemas.openxmlformats.org/officeDocument/2006/relationships/hyperlink" Target="http://www.youtube.com/watch?v=WX1rrFh4OZw" TargetMode="External"/><Relationship Id="rId5" Type="http://schemas.openxmlformats.org/officeDocument/2006/relationships/hyperlink" Target="http://www.youtube.com/watch?v=WX1rrFh4OZw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internet.com/~ted.power/l1greek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9900"/>
                </a:solidFill>
                <a:latin typeface="Arial"/>
              </a:rPr>
              <a:t>Language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Grammar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Vocabulary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peaking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Writing  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00"/>
                </a:solidFill>
                <a:latin typeface="Arial"/>
              </a:rPr>
              <a:t>Pronunc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28440" y="19807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Word / Sentence Into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Word into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Intonation pattern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http://www.youtube.com/watch?v=E5vjwPI_Gx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2 syll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Doctor; guitar / shampo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3 syll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Manager, Jonath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Computer, food words:banana, tomato, po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4 syllabl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Economy (never at the benin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esson 3b - Rhythm through Rhymes - English Pronun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youtube.com/watch?v=Jzc29ktRf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cc9900"/>
                </a:solidFill>
                <a:latin typeface="Arial"/>
              </a:rPr>
              <a:t>English Pronunciation - Which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Learn English Pronunciation Rochester New York Ac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youtube.com/watch?v=B7JtZOQ-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Pronunciation through Tongue Twi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Learn English with Tongue Twist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http://www.youtube.com/watch?v=6hQmaiuF6ZA&amp;NR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youtube.com/watch?v=6hQmaiuF6ZA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UGoEigo English Sounds Lesson 4: Tongue Twister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youtube.com/watch?v=hTM6DlqVte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cc9900"/>
                </a:solidFill>
                <a:latin typeface="Arial"/>
              </a:rPr>
              <a:t>English Pronunciat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L Playho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sl4kids.net/phonics.htmlPlayhou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as activities and resources for making Phonics fun for your stud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cc9900"/>
                </a:solidFill>
                <a:latin typeface="Arial"/>
              </a:rPr>
              <a:t>English Pronunciatio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Arial"/>
              </a:rPr>
              <a:t>http://www.manythings.org/e/pronuncia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Arial"/>
              </a:rPr>
              <a:t>http://www.manythings.org/pp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Arial"/>
              </a:rPr>
              <a:t>Fo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200" spc="-1" strike="noStrike">
                <a:solidFill>
                  <a:srgbClr val="000000"/>
                </a:solidFill>
                <a:latin typeface="Arial"/>
              </a:rPr>
              <a:t>http://www.fonetiks.org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nim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http://www.shiporsheep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out.com : English as 2nd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ish Pronunciation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esl.about.com/library/weekly/aa100500a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un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rong-chang.com/pronu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ish Pronun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nglishclub.com/pronunci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nds of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soundsofenglish.org/pronunciation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ouncing Dictionary with Instant Sound Free On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howjsay.com</a:t>
            </a:r>
            <a:r>
              <a:rPr b="0" lang="en-US" sz="1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VICEdict presents English Pronun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ww.edict.com.hk/vlc/pronunciation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glish Pronunciation!?!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bertc.com/english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0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904760" y="13712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cc9900"/>
                </a:solidFill>
                <a:latin typeface="Arial"/>
              </a:rPr>
              <a:t>English Pronunciatio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Lesson 6a - WORD STRESS - English Pronun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=WX1rrFh4OZ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nglish pronunciation - Don't leave off the final soun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LBF9VuJz2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Lesson 2 - "TH" - English Pronunciation, voiced ‘th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1GOJ4eF5L94&amp;NR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Lesson 5a - R - English Pronun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3PJ2jZlVf-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Lesson 4a - L - English Pronun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KG0GwIDm2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600" spc="-1" strike="noStrike">
                <a:solidFill>
                  <a:srgbClr val="000000"/>
                </a:solidFill>
                <a:latin typeface="Arial"/>
              </a:rPr>
              <a:t>English Pronunciation #1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dIvfI5AI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cc9900"/>
                </a:solidFill>
                <a:latin typeface="Arial"/>
              </a:rPr>
              <a:t>L2 English Pronunciation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Discussio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How good should it be? 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4760" y="297180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cc9900"/>
                </a:solidFill>
                <a:latin typeface="Arial"/>
              </a:rPr>
              <a:t>Develop English Pronunciation – 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ntelligibility, spoken English reasonably easy to understand and not distract the list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Serve communicative need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Increase self-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Develop speech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4760" y="2971800"/>
            <a:ext cx="6553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cc9900"/>
                </a:solidFill>
                <a:latin typeface="Arial"/>
              </a:rPr>
              <a:t>Specific English Teaching Case: Greek Cypriot learning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estion 1: What are their common mistakes in English pronunci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estion 2: What would / should you do abou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0000"/>
                </a:solidFill>
                <a:latin typeface="Arial"/>
              </a:rPr>
              <a:t>Question 3: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9900"/>
                </a:solidFill>
                <a:latin typeface="Arial"/>
              </a:rPr>
              <a:t>Specific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Lesson 1a - "TH" - English Pronunciation, unvoiced ‘th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Wxzieu-W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English Pronunciation #126: the word ‘Misogynisti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dIvfI5AI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English Pronunciation Lesson 2 - 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英語の発音第</a:t>
            </a:r>
            <a:r>
              <a:rPr b="1" lang="en" sz="1800" spc="-1" strike="noStrike">
                <a:solidFill>
                  <a:srgbClr val="000000"/>
                </a:solidFill>
                <a:latin typeface="Arial"/>
              </a:rPr>
              <a:t>2 Pay / 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_HqVMzkbHs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Minimal P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hiporsheep.com/page1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btinternet.com/~ted.power/l1greek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9900"/>
                </a:solidFill>
                <a:latin typeface="Arial"/>
              </a:rPr>
              <a:t>English sound-spell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guage Skills - How to teach Children, Correct Sound - Spelling, English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en.articlesgratuits.com/language-skills-how-to-teach-children-correct-sound-spelling-english-skills-id1549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culatory Pho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://www.staff.uni-marburg.de/~uffmann/phonetics.pd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904760" y="251460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sson 8a - STRESS PATTERNS - English Pronunciation “Stress in Sentences and phras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youtube.com/watch?v=Wbs5aoqFtV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sson 8b - STRESS PATTERNS - English Pronun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youtube.com/watch?v=-toSnwSqqz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6633"/>
                </a:solidFill>
                <a:latin typeface="Garamond"/>
              </a:rPr>
              <a:t>Teaching English Pronunciation</a:t>
            </a:r>
            <a:r>
              <a:rPr b="0" lang="en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160" y="1752120"/>
            <a:ext cx="7086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9900"/>
                </a:solidFill>
                <a:latin typeface="Arial"/>
              </a:rPr>
              <a:t>R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arn English Rhy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youtube.com/watch?v=DLOBq2WcIN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3 stro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e l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kes j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sanne 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isn’t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 hung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nda 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doesn’t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 like </a:t>
            </a:r>
            <a:r>
              <a:rPr b="1" lang="en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ph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Lesson 3a - Rhythm through Rhymes - English Pronunc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000000"/>
                </a:solidFill>
                <a:latin typeface="Arial"/>
              </a:rPr>
              <a:t>http://www.youtube.com/watch?v=N86BsL3l5Z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17812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21:42:13Z</dcterms:created>
  <dc:creator>Sofocleous</dc:creator>
  <dc:description/>
  <dc:language>en-US</dc:language>
  <cp:lastModifiedBy>Sofocleous</cp:lastModifiedBy>
  <dcterms:modified xsi:type="dcterms:W3CDTF">2008-11-02T09:26:01Z</dcterms:modified>
  <cp:revision>6</cp:revision>
  <dc:subject/>
  <dc:title>Teaching English Pronunciation </dc:title>
</cp:coreProperties>
</file>